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DD41-2666-4A86-BAE0-FF0CD6C89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1705-C43E-4B5C-9DF2-4B997227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03D2-733C-4D26-A37E-70852EEC0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2CF7-2357-4396-8587-D20AF9DBF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8693-C21C-4749-A41C-3E157A3F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DD14-7C4E-45BF-8F60-B8BF6BB7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04D5-ED6A-4197-81BD-51219ED6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B327-13AD-4E9D-B8AD-99BD6F0E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34FE-EB7D-4E5D-851A-5C22D11B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3730-4357-4502-A15B-7B20DE16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A6D5-640E-4D97-B54A-B8036789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7944-AFC0-46AD-A987-F199A444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E80D-34C6-4340-966B-470E3260D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ppalachian_region_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UpperTuckassegee-Heritage[1]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mountain-top-removal-coal-appalachia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MTNTOP1_G0906112c16ym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zeb%201[1]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poverty-in-appalachia[1]"/>
          <p:cNvPicPr/>
          <p:nvPr/>
        </p:nvPicPr>
        <p:blipFill>
          <a:blip r:embed="rId1"/>
          <a:stretch/>
        </p:blipFill>
        <p:spPr>
          <a:xfrm>
            <a:off x="457200" y="0"/>
            <a:ext cx="8686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appimage[1]"/>
          <p:cNvPicPr/>
          <p:nvPr/>
        </p:nvPicPr>
        <p:blipFill>
          <a:blip r:embed="rId1"/>
          <a:stretch/>
        </p:blipFill>
        <p:spPr>
          <a:xfrm>
            <a:off x="457200" y="0"/>
            <a:ext cx="81532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corbin17[1]"/>
          <p:cNvPicPr/>
          <p:nvPr/>
        </p:nvPicPr>
        <p:blipFill>
          <a:blip r:embed="rId1"/>
          <a:stretch/>
        </p:blipFill>
        <p:spPr>
          <a:xfrm>
            <a:off x="457200" y="0"/>
            <a:ext cx="83059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7074-050-1A45B633[1]"/>
          <p:cNvPicPr/>
          <p:nvPr/>
        </p:nvPicPr>
        <p:blipFill>
          <a:blip r:embed="rId1"/>
          <a:stretch/>
        </p:blipFill>
        <p:spPr>
          <a:xfrm>
            <a:off x="-3048120" y="-1995480"/>
            <a:ext cx="15240240" cy="1084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2008-08-25-MeasureFlow[1]"/>
          <p:cNvPicPr/>
          <p:nvPr/>
        </p:nvPicPr>
        <p:blipFill>
          <a:blip r:embed="rId1"/>
          <a:stretch/>
        </p:blipFill>
        <p:spPr>
          <a:xfrm>
            <a:off x="380880" y="0"/>
            <a:ext cx="84582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2007-12-24-River[1]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410562_f520[1]"/>
          <p:cNvPicPr/>
          <p:nvPr/>
        </p:nvPicPr>
        <p:blipFill>
          <a:blip r:embed="rId1"/>
          <a:stretch/>
        </p:blipFill>
        <p:spPr>
          <a:xfrm>
            <a:off x="457200" y="304920"/>
            <a:ext cx="81532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Gaspesie%20et%20Banff%202006%20169[1]"/>
          <p:cNvPicPr/>
          <p:nvPr/>
        </p:nvPicPr>
        <p:blipFill>
          <a:blip r:embed="rId1"/>
          <a:stretch/>
        </p:blipFill>
        <p:spPr>
          <a:xfrm>
            <a:off x="-11160" y="0"/>
            <a:ext cx="916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profile-mtns[1]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15:19:20Z</dcterms:created>
  <dc:creator>mscott</dc:creator>
  <dc:description/>
  <dc:language>en-US</dc:language>
  <cp:lastModifiedBy>www.warezstore.com</cp:lastModifiedBy>
  <dcterms:modified xsi:type="dcterms:W3CDTF">2012-01-08T23:50:12Z</dcterms:modified>
  <cp:revision>2</cp:revision>
  <dc:subject/>
  <dc:title>Slide 1</dc:title>
</cp:coreProperties>
</file>